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driveby.wav" ContentType="audio/x-wav"/>
  <Override PartName="/ppt/media/image8.wmf" ContentType="image/x-wmf"/>
  <Override PartName="/ppt/media/cashreg.wav" ContentType="audio/x-wav"/>
  <Override PartName="/ppt/media/image4.wmf" ContentType="image/x-wmf"/>
  <Override PartName="/ppt/media/image27.wmf" ContentType="image/x-wmf"/>
  <Override PartName="/ppt/media/image22.wmf" ContentType="image/x-wmf"/>
  <Override PartName="/ppt/media/image6.wmf" ContentType="image/x-wmf"/>
  <Override PartName="/ppt/media/image29.wmf" ContentType="image/x-wmf"/>
  <Override PartName="/ppt/media/image23.wmf" ContentType="image/x-wmf"/>
  <Override PartName="/ppt/media/image12.wmf" ContentType="image/x-wmf"/>
  <Override PartName="/ppt/media/image24.wmf" ContentType="image/x-wmf"/>
  <Override PartName="/ppt/media/projctor.wav" ContentType="audio/x-wav"/>
  <Override PartName="/ppt/media/image1.wmf" ContentType="image/x-wmf"/>
  <Override PartName="/ppt/media/image26.wmf" ContentType="image/x-wmf"/>
  <Override PartName="/ppt/media/image3.wmf" ContentType="image/x-wmf"/>
  <Override PartName="/ppt/media/image28.wmf" ContentType="image/x-wmf"/>
  <Override PartName="/ppt/media/laser.wav" ContentType="audio/x-wav"/>
  <Override PartName="/ppt/media/image5.wmf" ContentType="image/x-wmf"/>
  <Override PartName="/ppt/media/image25.wmf" ContentType="image/x-wmf"/>
  <Override PartName="/ppt/media/gunshot.wav" ContentType="audio/x-wav"/>
  <Override PartName="/ppt/media/image11.wmf" ContentType="image/x-wmf"/>
  <Override PartName="/ppt/media/ricochet.wav" ContentType="audio/x-wav"/>
  <Override PartName="/ppt/media/image2.wmf" ContentType="image/x-wmf"/>
  <Override PartName="/ppt/media/chimes.wav" ContentType="audio/x-wav"/>
  <Override PartName="/ppt/media/camera.wav" ContentType="audio/x-wav"/>
  <Override PartName="/ppt/media/image7.wmf" ContentType="image/x-wmf"/>
  <Override PartName="/ppt/media/image9.wmf" ContentType="image/x-wmf"/>
  <Override PartName="/ppt/media/image10.wmf" ContentType="image/x-wmf"/>
  <Override PartName="/ppt/media/image13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9622-F6A2-42D5-9D9E-EB96CDE2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07C7-6BB7-45F3-8D13-AD7456CE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FBB-FB27-46C8-8116-890F2F1F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FB1-33D3-4E57-B6AC-24897D1C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5D02-352A-4513-AA50-69A34EEA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7E8-C72E-43E5-94F2-4C7D06B5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FAD6-7F3F-4DB4-B68D-99B2A21C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5813-EA1C-41C7-9C6C-E1965DE8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B39-6821-4995-B7F9-65B6ED17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D777-D8F9-4C98-A98F-D38F5A08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989-BA34-4FD0-A026-8C57A1DB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9A8-2F19-4885-A926-34FEFF7A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31D2-B3EE-47C2-A849-A73863D24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projctor.wav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cashreg.wav"/><Relationship Id="rId11" Type="http://schemas.openxmlformats.org/officeDocument/2006/relationships/audio" Target="../media/driveby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gunshot.wav"/><Relationship Id="rId15" Type="http://schemas.openxmlformats.org/officeDocument/2006/relationships/audio" Target="../media/driveby.wav"/><Relationship Id="rId16" Type="http://schemas.openxmlformats.org/officeDocument/2006/relationships/audio" Target="../media/cashreg.wav"/><Relationship Id="rId17" Type="http://schemas.openxmlformats.org/officeDocument/2006/relationships/audio" Target="../media/driveby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gunshot.wav"/><Relationship Id="rId21" Type="http://schemas.openxmlformats.org/officeDocument/2006/relationships/audio" Target="../media/driveby.wav"/><Relationship Id="rId22" Type="http://schemas.openxmlformats.org/officeDocument/2006/relationships/audio" Target="../media/cashreg.wav"/><Relationship Id="rId23" Type="http://schemas.openxmlformats.org/officeDocument/2006/relationships/audio" Target="../media/driveby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gunshot.wav"/><Relationship Id="rId27" Type="http://schemas.openxmlformats.org/officeDocument/2006/relationships/audio" Target="../media/driveby.wav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7.wmf"/><Relationship Id="rId39" Type="http://schemas.openxmlformats.org/officeDocument/2006/relationships/audio" Target="../media/camera.wav"/><Relationship Id="rId40" Type="http://schemas.openxmlformats.org/officeDocument/2006/relationships/audio" Target="../media/chimes.wav"/><Relationship Id="rId41" Type="http://schemas.openxmlformats.org/officeDocument/2006/relationships/audio" Target="../media/cashreg.wav"/><Relationship Id="rId42" Type="http://schemas.openxmlformats.org/officeDocument/2006/relationships/audio" Target="../media/gunshot.wav"/><Relationship Id="rId43" Type="http://schemas.openxmlformats.org/officeDocument/2006/relationships/audio" Target="../media/gunshot.wav"/><Relationship Id="rId44" Type="http://schemas.openxmlformats.org/officeDocument/2006/relationships/audio" Target="../media/driveby.wav"/><Relationship Id="rId45" Type="http://schemas.openxmlformats.org/officeDocument/2006/relationships/audio" Target="../media/gunshot.wav"/><Relationship Id="rId46" Type="http://schemas.openxmlformats.org/officeDocument/2006/relationships/audio" Target="../media/gunshot.wav"/><Relationship Id="rId47" Type="http://schemas.openxmlformats.org/officeDocument/2006/relationships/audio" Target="../media/gunshot.wav"/><Relationship Id="rId48" Type="http://schemas.openxmlformats.org/officeDocument/2006/relationships/audio" Target="../media/ricochet.wav"/><Relationship Id="rId49" Type="http://schemas.openxmlformats.org/officeDocument/2006/relationships/audio" Target="../media/driveby.wav"/><Relationship Id="rId50" Type="http://schemas.openxmlformats.org/officeDocument/2006/relationships/audio" Target="../media/laser.wav"/><Relationship Id="rId51" Type="http://schemas.openxmlformats.org/officeDocument/2006/relationships/audio" Target="../media/laser.wav"/><Relationship Id="rId52" Type="http://schemas.openxmlformats.org/officeDocument/2006/relationships/audio" Target="../media/gunshot.wav"/><Relationship Id="rId53" Type="http://schemas.openxmlformats.org/officeDocument/2006/relationships/audio" Target="../media/driveby.wav"/><Relationship Id="rId54" Type="http://schemas.openxmlformats.org/officeDocument/2006/relationships/audio" Target="../media/cashreg.wav"/><Relationship Id="rId55" Type="http://schemas.openxmlformats.org/officeDocument/2006/relationships/audio" Target="../media/gunshot.wav"/><Relationship Id="rId56" Type="http://schemas.openxmlformats.org/officeDocument/2006/relationships/audio" Target="../media/gunshot.wav"/><Relationship Id="rId57" Type="http://schemas.openxmlformats.org/officeDocument/2006/relationships/audio" Target="../media/driveby.wav"/><Relationship Id="rId58" Type="http://schemas.openxmlformats.org/officeDocument/2006/relationships/audio" Target="../media/gunshot.wav"/><Relationship Id="rId59" Type="http://schemas.openxmlformats.org/officeDocument/2006/relationships/audio" Target="../media/gunshot.wav"/><Relationship Id="rId60" Type="http://schemas.openxmlformats.org/officeDocument/2006/relationships/audio" Target="../media/gunshot.wav"/><Relationship Id="rId61" Type="http://schemas.openxmlformats.org/officeDocument/2006/relationships/audio" Target="../media/driveby.wav"/><Relationship Id="rId62" Type="http://schemas.openxmlformats.org/officeDocument/2006/relationships/audio" Target="../media/laser.wav"/><Relationship Id="rId63" Type="http://schemas.openxmlformats.org/officeDocument/2006/relationships/audio" Target="../media/laser.wav"/><Relationship Id="rId64" Type="http://schemas.openxmlformats.org/officeDocument/2006/relationships/audio" Target="../media/gunshot.wav"/><Relationship Id="rId65" Type="http://schemas.openxmlformats.org/officeDocument/2006/relationships/audio" Target="../media/driveby.wav"/><Relationship Id="rId66" Type="http://schemas.openxmlformats.org/officeDocument/2006/relationships/audio" Target="../media/cashreg.wav"/><Relationship Id="rId67" Type="http://schemas.openxmlformats.org/officeDocument/2006/relationships/audio" Target="../media/gunshot.wav"/><Relationship Id="rId68" Type="http://schemas.openxmlformats.org/officeDocument/2006/relationships/audio" Target="../media/gunshot.wav"/><Relationship Id="rId69" Type="http://schemas.openxmlformats.org/officeDocument/2006/relationships/audio" Target="../media/driveby.wav"/><Relationship Id="rId70" Type="http://schemas.openxmlformats.org/officeDocument/2006/relationships/audio" Target="../media/gunshot.wav"/><Relationship Id="rId71" Type="http://schemas.openxmlformats.org/officeDocument/2006/relationships/audio" Target="../media/gunshot.wav"/><Relationship Id="rId72" Type="http://schemas.openxmlformats.org/officeDocument/2006/relationships/audio" Target="../media/gunshot.wav"/><Relationship Id="rId73" Type="http://schemas.openxmlformats.org/officeDocument/2006/relationships/audio" Target="../media/driveby.wav"/><Relationship Id="rId74" Type="http://schemas.openxmlformats.org/officeDocument/2006/relationships/audio" Target="../media/laser.wav"/><Relationship Id="rId75" Type="http://schemas.openxmlformats.org/officeDocument/2006/relationships/audio" Target="../media/gunshot.wav"/><Relationship Id="rId76" Type="http://schemas.openxmlformats.org/officeDocument/2006/relationships/audio" Target="../media/driveby.wav"/><Relationship Id="rId7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9.wmf"/><Relationship Id="rId35" Type="http://schemas.openxmlformats.org/officeDocument/2006/relationships/audio" Target="../media/camera.wav"/><Relationship Id="rId36" Type="http://schemas.openxmlformats.org/officeDocument/2006/relationships/audio" Target="../media/chimes.wav"/><Relationship Id="rId37" Type="http://schemas.openxmlformats.org/officeDocument/2006/relationships/audio" Target="../media/cashreg.wav"/><Relationship Id="rId38" Type="http://schemas.openxmlformats.org/officeDocument/2006/relationships/audio" Target="../media/gunshot.wav"/><Relationship Id="rId39" Type="http://schemas.openxmlformats.org/officeDocument/2006/relationships/audio" Target="../media/gunshot.wav"/><Relationship Id="rId40" Type="http://schemas.openxmlformats.org/officeDocument/2006/relationships/audio" Target="../media/ricochet.wav"/><Relationship Id="rId41" Type="http://schemas.openxmlformats.org/officeDocument/2006/relationships/audio" Target="../media/ricochet.wav"/><Relationship Id="rId42" Type="http://schemas.openxmlformats.org/officeDocument/2006/relationships/audio" Target="../media/ricochet.wav"/><Relationship Id="rId43" Type="http://schemas.openxmlformats.org/officeDocument/2006/relationships/audio" Target="../media/driveby.wav"/><Relationship Id="rId44" Type="http://schemas.openxmlformats.org/officeDocument/2006/relationships/audio" Target="../media/laser.wav"/><Relationship Id="rId45" Type="http://schemas.openxmlformats.org/officeDocument/2006/relationships/audio" Target="../media/gunshot.wav"/><Relationship Id="rId46" Type="http://schemas.openxmlformats.org/officeDocument/2006/relationships/audio" Target="../media/driveby.wav"/><Relationship Id="rId47" Type="http://schemas.openxmlformats.org/officeDocument/2006/relationships/audio" Target="../media/cashreg.wav"/><Relationship Id="rId48" Type="http://schemas.openxmlformats.org/officeDocument/2006/relationships/audio" Target="../media/driveby.wav"/><Relationship Id="rId49" Type="http://schemas.openxmlformats.org/officeDocument/2006/relationships/audio" Target="../media/gunshot.wav"/><Relationship Id="rId50" Type="http://schemas.openxmlformats.org/officeDocument/2006/relationships/audio" Target="../media/driveby.wav"/><Relationship Id="rId51" Type="http://schemas.openxmlformats.org/officeDocument/2006/relationships/audio" Target="../media/gunshot.wav"/><Relationship Id="rId52" Type="http://schemas.openxmlformats.org/officeDocument/2006/relationships/audio" Target="../media/gunshot.wav"/><Relationship Id="rId53" Type="http://schemas.openxmlformats.org/officeDocument/2006/relationships/audio" Target="../media/gunshot.wav"/><Relationship Id="rId54" Type="http://schemas.openxmlformats.org/officeDocument/2006/relationships/audio" Target="../media/gunshot.wav"/><Relationship Id="rId55" Type="http://schemas.openxmlformats.org/officeDocument/2006/relationships/audio" Target="../media/driveby.wav"/><Relationship Id="rId56" Type="http://schemas.openxmlformats.org/officeDocument/2006/relationships/audio" Target="../media/laser.wav"/><Relationship Id="rId57" Type="http://schemas.openxmlformats.org/officeDocument/2006/relationships/audio" Target="../media/gunshot.wav"/><Relationship Id="rId58" Type="http://schemas.openxmlformats.org/officeDocument/2006/relationships/audio" Target="../media/driveby.wav"/><Relationship Id="rId59" Type="http://schemas.openxmlformats.org/officeDocument/2006/relationships/audio" Target="../media/cashreg.wav"/><Relationship Id="rId60" Type="http://schemas.openxmlformats.org/officeDocument/2006/relationships/audio" Target="../media/gunshot.wav"/><Relationship Id="rId61" Type="http://schemas.openxmlformats.org/officeDocument/2006/relationships/audio" Target="../media/gunshot.wav"/><Relationship Id="rId62" Type="http://schemas.openxmlformats.org/officeDocument/2006/relationships/audio" Target="../media/gunshot.wav"/><Relationship Id="rId63" Type="http://schemas.openxmlformats.org/officeDocument/2006/relationships/audio" Target="../media/gunshot.wav"/><Relationship Id="rId64" Type="http://schemas.openxmlformats.org/officeDocument/2006/relationships/audio" Target="../media/gunshot.wav"/><Relationship Id="rId65" Type="http://schemas.openxmlformats.org/officeDocument/2006/relationships/audio" Target="../media/driveby.wav"/><Relationship Id="rId66" Type="http://schemas.openxmlformats.org/officeDocument/2006/relationships/audio" Target="../media/laser.wav"/><Relationship Id="rId67" Type="http://schemas.openxmlformats.org/officeDocument/2006/relationships/audio" Target="../media/gunshot.wav"/><Relationship Id="rId68" Type="http://schemas.openxmlformats.org/officeDocument/2006/relationships/audio" Target="../media/driveby.wav"/><Relationship Id="rId6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3960" y="66348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a Linear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2193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raph the in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0880" y="1752480"/>
          <a:ext cx="266724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266724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228600" y="3200400"/>
            <a:ext cx="3733920" cy="825480"/>
            <a:chOff x="228600" y="3200400"/>
            <a:chExt cx="3733920" cy="825480"/>
          </a:xfrm>
        </p:grpSpPr>
        <p:sp>
          <p:nvSpPr>
            <p:cNvPr id="47" name=""/>
            <p:cNvSpPr/>
            <p:nvPr/>
          </p:nvSpPr>
          <p:spPr>
            <a:xfrm>
              <a:off x="228600" y="342900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520" y="3200400"/>
              <a:ext cx="342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l      l      l      l      l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380880" y="3581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    -2    -1     0      1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133720"/>
            <a:ext cx="762120" cy="38088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2767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28600" y="3429000"/>
            <a:ext cx="1447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48320" y="1752480"/>
          <a:ext cx="2439720" cy="6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752480"/>
                    <a:ext cx="24397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"/>
          <p:cNvGrpSpPr/>
          <p:nvPr/>
        </p:nvGrpSpPr>
        <p:grpSpPr>
          <a:xfrm>
            <a:off x="4495680" y="3200400"/>
            <a:ext cx="3733920" cy="825480"/>
            <a:chOff x="4495680" y="3200400"/>
            <a:chExt cx="3733920" cy="825480"/>
          </a:xfrm>
        </p:grpSpPr>
        <p:sp>
          <p:nvSpPr>
            <p:cNvPr id="56" name=""/>
            <p:cNvSpPr/>
            <p:nvPr/>
          </p:nvSpPr>
          <p:spPr>
            <a:xfrm>
              <a:off x="4495680" y="342900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00600" y="3200400"/>
              <a:ext cx="342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l      l      l      l      l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648320" y="3581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    -2    -1     0      1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2133720"/>
            <a:ext cx="762120" cy="38088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32767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429000"/>
            <a:ext cx="1447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695680" y="4114800"/>
          <a:ext cx="238284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95680" y="4114800"/>
                    <a:ext cx="238284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"/>
          <p:cNvGrpSpPr/>
          <p:nvPr/>
        </p:nvGrpSpPr>
        <p:grpSpPr>
          <a:xfrm>
            <a:off x="2514600" y="5562720"/>
            <a:ext cx="3733920" cy="825480"/>
            <a:chOff x="2514600" y="5562720"/>
            <a:chExt cx="3733920" cy="825480"/>
          </a:xfrm>
        </p:grpSpPr>
        <p:sp>
          <p:nvSpPr>
            <p:cNvPr id="65" name=""/>
            <p:cNvSpPr/>
            <p:nvPr/>
          </p:nvSpPr>
          <p:spPr>
            <a:xfrm>
              <a:off x="2514600" y="57913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19520" y="5562720"/>
              <a:ext cx="342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l      l      l      l      l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666880" y="5943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    -2    -1     0      1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572000"/>
            <a:ext cx="761760" cy="38088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5638680"/>
            <a:ext cx="304920" cy="3049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14240" y="579132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75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720" y="687240"/>
            <a:ext cx="901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Using Addition and Subtraction to Solve an Inequa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219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 and graph its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28600" y="1676520"/>
          <a:ext cx="2971800" cy="76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297180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" name=""/>
          <p:cNvGrpSpPr/>
          <p:nvPr/>
        </p:nvGrpSpPr>
        <p:grpSpPr>
          <a:xfrm>
            <a:off x="304920" y="4267080"/>
            <a:ext cx="3733560" cy="825480"/>
            <a:chOff x="304920" y="4267080"/>
            <a:chExt cx="3733560" cy="825480"/>
          </a:xfrm>
        </p:grpSpPr>
        <p:sp>
          <p:nvSpPr>
            <p:cNvPr id="77" name=""/>
            <p:cNvSpPr/>
            <p:nvPr/>
          </p:nvSpPr>
          <p:spPr>
            <a:xfrm>
              <a:off x="304920" y="4495680"/>
              <a:ext cx="373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9480" y="4267080"/>
              <a:ext cx="342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l      l      l      l      l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57200" y="4648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      0      1     2     3  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3809880"/>
            <a:ext cx="762120" cy="38124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4343400"/>
            <a:ext cx="304560" cy="3049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560" y="44956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952880" y="1676520"/>
          <a:ext cx="2971800" cy="61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676520"/>
                    <a:ext cx="29718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" name=""/>
          <p:cNvGrpSpPr/>
          <p:nvPr/>
        </p:nvGrpSpPr>
        <p:grpSpPr>
          <a:xfrm>
            <a:off x="4572000" y="4267080"/>
            <a:ext cx="3733920" cy="825480"/>
            <a:chOff x="4572000" y="4267080"/>
            <a:chExt cx="3733920" cy="825480"/>
          </a:xfrm>
        </p:grpSpPr>
        <p:sp>
          <p:nvSpPr>
            <p:cNvPr id="86" name=""/>
            <p:cNvSpPr/>
            <p:nvPr/>
          </p:nvSpPr>
          <p:spPr>
            <a:xfrm>
              <a:off x="4572000" y="449568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6920" y="4267080"/>
              <a:ext cx="342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l      l      l      l      l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724280" y="46483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6     -5    -4    -3     -2   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3124080"/>
            <a:ext cx="762120" cy="228600"/>
          </a:xfrm>
          <a:prstGeom prst="ellipse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4343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571640" y="4495680"/>
            <a:ext cx="198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5029200"/>
          <a:ext cx="35049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029200"/>
                    <a:ext cx="35049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" name=""/>
          <p:cNvGrpSpPr/>
          <p:nvPr/>
        </p:nvGrpSpPr>
        <p:grpSpPr>
          <a:xfrm>
            <a:off x="5029200" y="6019920"/>
            <a:ext cx="3733920" cy="825480"/>
            <a:chOff x="5029200" y="6019920"/>
            <a:chExt cx="3733920" cy="825480"/>
          </a:xfrm>
        </p:grpSpPr>
        <p:sp>
          <p:nvSpPr>
            <p:cNvPr id="95" name=""/>
            <p:cNvSpPr/>
            <p:nvPr/>
          </p:nvSpPr>
          <p:spPr>
            <a:xfrm>
              <a:off x="5029200" y="62485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4120" y="6019920"/>
              <a:ext cx="342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l      l      l      l      l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181480" y="6400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5    -4     -3     -2    -1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6095880"/>
            <a:ext cx="304920" cy="3049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248520"/>
            <a:ext cx="1371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38280" y="2133720"/>
          <a:ext cx="768600" cy="61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133720"/>
                    <a:ext cx="7686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85800" y="2133720"/>
          <a:ext cx="768240" cy="61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2133720"/>
                    <a:ext cx="76824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85800" y="2743200"/>
            <a:ext cx="2666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90720" y="2743200"/>
          <a:ext cx="51264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90720" y="2743200"/>
                    <a:ext cx="5126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447920" y="2743200"/>
          <a:ext cx="512640" cy="563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47920" y="2743200"/>
                    <a:ext cx="51264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905120" y="2819520"/>
          <a:ext cx="512640" cy="666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05120" y="2819520"/>
                    <a:ext cx="5126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914400" y="3352680"/>
          <a:ext cx="1436760" cy="770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14400" y="3352680"/>
                    <a:ext cx="143676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6248520" y="2133720"/>
          <a:ext cx="819000" cy="614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48520" y="2133720"/>
                    <a:ext cx="8190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7086600" y="2133720"/>
          <a:ext cx="819000" cy="614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086600" y="2133720"/>
                    <a:ext cx="8190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638680" y="2743200"/>
            <a:ext cx="2667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553080" y="2793960"/>
          <a:ext cx="513000" cy="511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553080" y="2793960"/>
                    <a:ext cx="5130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7010280" y="2717640"/>
          <a:ext cx="513000" cy="614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10280" y="2717640"/>
                    <a:ext cx="5130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7315200" y="2666880"/>
          <a:ext cx="820800" cy="615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315200" y="2666880"/>
                    <a:ext cx="8208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676520" y="5638680"/>
          <a:ext cx="869760" cy="614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676520" y="5638680"/>
                    <a:ext cx="8697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971800" y="5638680"/>
          <a:ext cx="870120" cy="614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971800" y="5638680"/>
                    <a:ext cx="8701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990720" y="6248520"/>
            <a:ext cx="2666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905120" y="6222960"/>
          <a:ext cx="512640" cy="665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905120" y="6222960"/>
                    <a:ext cx="51264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438280" y="6294600"/>
          <a:ext cx="513000" cy="5634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438280" y="6294600"/>
                    <a:ext cx="5130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895480" y="6242040"/>
          <a:ext cx="871560" cy="615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895480" y="6242040"/>
                    <a:ext cx="8715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75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75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7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7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13680" y="700200"/>
            <a:ext cx="9032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imes New Roman"/>
              </a:rPr>
              <a:t>Using Multiplication and Division to Solve an Inequalit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219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inequality and graph its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1523880"/>
          <a:ext cx="3075120" cy="15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30751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304920" y="4038480"/>
            <a:ext cx="3733560" cy="825480"/>
            <a:chOff x="304920" y="4038480"/>
            <a:chExt cx="3733560" cy="825480"/>
          </a:xfrm>
        </p:grpSpPr>
        <p:sp>
          <p:nvSpPr>
            <p:cNvPr id="141" name=""/>
            <p:cNvSpPr/>
            <p:nvPr/>
          </p:nvSpPr>
          <p:spPr>
            <a:xfrm>
              <a:off x="304920" y="4267080"/>
              <a:ext cx="373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480" y="4038480"/>
              <a:ext cx="342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l      l      l      l      l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57200" y="4419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7     -6     -5    -4    -3    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4114800"/>
            <a:ext cx="304560" cy="3049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456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19440" y="1905120"/>
          <a:ext cx="3434040" cy="61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9440" y="1905120"/>
                    <a:ext cx="343404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" name=""/>
          <p:cNvGrpSpPr/>
          <p:nvPr/>
        </p:nvGrpSpPr>
        <p:grpSpPr>
          <a:xfrm>
            <a:off x="4648320" y="4038480"/>
            <a:ext cx="3733560" cy="825480"/>
            <a:chOff x="4648320" y="4038480"/>
            <a:chExt cx="3733560" cy="825480"/>
          </a:xfrm>
        </p:grpSpPr>
        <p:sp>
          <p:nvSpPr>
            <p:cNvPr id="149" name=""/>
            <p:cNvSpPr/>
            <p:nvPr/>
          </p:nvSpPr>
          <p:spPr>
            <a:xfrm>
              <a:off x="4648320" y="4267080"/>
              <a:ext cx="373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52880" y="4038480"/>
              <a:ext cx="342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l      l      l      l      l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800600" y="4419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    1     2      3      4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4114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7960" y="4267080"/>
            <a:ext cx="198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33360" y="4786200"/>
                <a:ext cx="329580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" name=""/>
          <p:cNvGrpSpPr/>
          <p:nvPr/>
        </p:nvGrpSpPr>
        <p:grpSpPr>
          <a:xfrm>
            <a:off x="5029200" y="6019920"/>
            <a:ext cx="3733920" cy="825480"/>
            <a:chOff x="5029200" y="6019920"/>
            <a:chExt cx="3733920" cy="825480"/>
          </a:xfrm>
        </p:grpSpPr>
        <p:sp>
          <p:nvSpPr>
            <p:cNvPr id="156" name=""/>
            <p:cNvSpPr/>
            <p:nvPr/>
          </p:nvSpPr>
          <p:spPr>
            <a:xfrm>
              <a:off x="5029200" y="6248520"/>
              <a:ext cx="373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34120" y="6019920"/>
              <a:ext cx="342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l      l      l      l      l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181480" y="64008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8    -7     -6     -5    -4    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6095880"/>
            <a:ext cx="304560" cy="30492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029200" y="6248520"/>
            <a:ext cx="1447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43000" y="1905120"/>
          <a:ext cx="973080" cy="97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905120"/>
                    <a:ext cx="9730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971800" y="1828800"/>
          <a:ext cx="973080" cy="973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828800"/>
                    <a:ext cx="9730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1523880" y="3276720"/>
          <a:ext cx="514440" cy="51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3276720"/>
                    <a:ext cx="5144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791320" y="2514600"/>
          <a:ext cx="86976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91320" y="2514600"/>
                    <a:ext cx="8697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7162920" y="2514600"/>
          <a:ext cx="869760" cy="614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162920" y="2514600"/>
                    <a:ext cx="8697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5511960" y="2514600"/>
            <a:ext cx="10666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145200" y="3174840"/>
          <a:ext cx="512640" cy="51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45200" y="3174840"/>
                    <a:ext cx="5126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602400" y="3098880"/>
          <a:ext cx="512640" cy="614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02400" y="3098880"/>
                    <a:ext cx="51264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7086600" y="3048120"/>
          <a:ext cx="461880" cy="615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86600" y="3048120"/>
                    <a:ext cx="4618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914400" y="5105520"/>
          <a:ext cx="1330200" cy="973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14400" y="5105520"/>
                    <a:ext cx="13302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048120" y="5029200"/>
          <a:ext cx="1535040" cy="973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48120" y="5029200"/>
                    <a:ext cx="15350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689440" y="5156280"/>
          <a:ext cx="409680" cy="563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689440" y="5156280"/>
                    <a:ext cx="4096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6172200" y="5176800"/>
          <a:ext cx="512640" cy="563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172200" y="5176800"/>
                    <a:ext cx="51264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654960" y="5124600"/>
          <a:ext cx="820440" cy="615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54960" y="5124600"/>
                    <a:ext cx="8204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981080" y="3124080"/>
          <a:ext cx="630360" cy="6908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1080" y="3124080"/>
                    <a:ext cx="63036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2438280" y="3048120"/>
          <a:ext cx="1071720" cy="7524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438280" y="3048120"/>
                    <a:ext cx="10717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7264440" y="251460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75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75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7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7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21:26:25Z</dcterms:created>
  <dc:creator>Teacher</dc:creator>
  <dc:description/>
  <dc:language>en-US</dc:language>
  <cp:lastModifiedBy>damon.skelton</cp:lastModifiedBy>
  <dcterms:modified xsi:type="dcterms:W3CDTF">2005-11-04T14:02:04Z</dcterms:modified>
  <cp:revision>14</cp:revision>
  <dc:subject/>
  <dc:title>PowerPoint Presentation</dc:title>
</cp:coreProperties>
</file>